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5BF-2124-4F29-8DDE-DC9A38CA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7EE-F4A2-4425-BD2A-A5B50BD3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1F83-373B-41BF-8F59-37E399C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60D98-2D0B-45EE-B098-2212D272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2F9E4-D85F-467F-837E-F36A25A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D8B9F-922F-4EFF-AD4D-7322489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C4FC2-6C76-464D-AB6F-60056F0B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2627F-51A6-4A9D-A53F-213157B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AFAF-FE7B-4282-BB02-C86C4B57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756D1-5AB3-413B-BFBD-6EB9A97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5457D-AE46-49E4-8109-242B67BE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2D993-EAA4-4571-9919-A4FE50A8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CDB-E391-4957-88B4-C9974C76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3EA68-121C-4D0E-B717-85B20549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22ECB-D51A-4F58-98F3-3819D1A1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B24B-A2AC-446D-A238-D4F65604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474B1-F69B-4596-AA98-36AC64BF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A586C-0848-4471-BB76-16CD1CC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F6B73-1C98-4B9D-90D7-F95F23D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A7D7C-6F91-4431-92F2-281CA0B1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4086E-2DA7-4316-B4EE-E3C3E65C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C2EAD-CE41-4DF6-B037-437110FB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98D7D-B10A-4EAE-A78B-7D641150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FA4-4B50-48B9-8D69-9D7C5FF9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F8FE1-319F-4C73-AF19-58E50596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840E1-AC8E-4696-969C-907BF865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03551-E352-46A5-9C9F-C3C6483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E3297-47D2-4C8C-BBAB-568F9BF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F10ED-78B2-4261-811E-828A05F2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8C4D1-CBD0-4E93-B773-3EC7BEFC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46AD-85A9-40B2-8FF4-85A2A9D6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4C0A8-9A9B-4E80-8F0C-73777A5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08223-4D25-4727-A7CA-9087F52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FD5AD-E817-4F5F-8A95-05F9A19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DFF-59EC-4833-9E37-907DE5AB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A9695-5DEE-4989-B27E-FCEF05A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C8159-97E1-43F4-AC46-A687CDD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3D5E-46DC-4D32-BCEA-6AB9E1E7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8CBC3-51E7-48EA-8B47-F2C98813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20240-1DD3-4B32-A6C3-23EA67E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A616-64CD-465B-BE9E-9CFC6074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374BF-7EA3-4548-AB8C-3F748393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2A3CA-097F-4A6B-9A12-57EF9773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1C276-D849-4C93-91E8-99D22BE0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2B448-6A24-4FA3-A438-AE371E0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EA20-790B-49B0-A36E-DE99F78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28E45-63DC-413E-8660-00A1549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B34F5-5125-442F-8950-9BDE932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4D075-2927-49EA-87FD-00AE21F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5A063-1F4E-4267-A30E-23D0DF03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47439-2889-4E13-B470-BB9BD748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9ECE0-1A68-4FD6-A7D3-0F7D2464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0549E-1AC1-456B-BF3C-4D66BFD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62D07-DA48-4C3B-932C-FC0D062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6B4F8-073F-4D09-B5BC-D3D3A519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6A916-CCE8-4317-B455-00865C2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8DFB-2BD3-48BA-B0DE-44CEABB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F7929-CF45-44BF-AA8D-F3074AC8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4A647-A317-4F5E-B141-91572A6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510EA-3EEC-44CF-9E73-2EE1E76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E892A-9368-4C28-B1D5-C8580CAB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027CC-66D8-4ECC-BD75-83D70EE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FBE79-A014-46E4-B7B6-D377E4AA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F5080-385D-4139-B64B-93F90EDC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C6B5E-A97D-4357-B100-8C0660A8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9906C-0B96-434B-AA39-8F7977C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53621-BB10-43B9-9E09-3A84FBC8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E8D-B0A6-4B67-B010-F608F18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0D83B-6461-4F8B-9438-670CC264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3ED04-CE5D-43A8-A081-CA460C5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DDEA3-F9CC-4944-8CAB-4B1CD3C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F4F0F-A468-46FC-9614-136796C2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98C93-AF66-4E94-83AF-EFEACF50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07402-3A0A-494B-ADFF-25A0ABF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9BEDB-96E7-45AF-965B-E079AF5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F3736-F14E-4A7F-AB36-BAF94300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12471-5568-432A-BBE5-409F4ADF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EC29F-B669-4F6D-8C66-30FC41B7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8853-FE59-4D8C-AE31-26E03DCF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5D71E-46F1-4DD8-879A-54C6C01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CEED0-50A5-4964-BFA4-5137C294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9C410-0A85-41CF-9D94-DFDF2F56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0056D-8B0F-4EC8-9ED3-076BE179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A532F-B9D5-4501-B25A-29125926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B1D4D-6F1A-4533-BE20-B3FCE1B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A8EEB-34B6-4238-9870-0356DE67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AD757-C185-4D45-8606-BF14AAD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0CBE6-E91B-4608-B759-9D219FA2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276AF-6751-40CD-A98B-69956385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E82B-E0B6-4373-8353-73C78D54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6A21A-E186-4CA7-B6AA-8CAB786D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B7426-FE7A-4D2A-87F7-9D920A1C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B61F5-1575-485B-92DB-18B2AA0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F275A-3963-492C-8B46-77811719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6B5B8-EE61-46A7-A291-D00BED50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44E83-59C2-4B39-861F-5310D0D1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0DDBD-E5F3-46DD-9C85-8633A76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CA39A-9F5B-4F9F-BA1F-08F0AA7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B3FA9-6A3A-4193-8BFE-552B204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52B6E-F8D0-48D0-93BE-10DB721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AAE6-799B-4A66-B2A3-A374E00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EE3B2-041E-4B35-957C-347D7C92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85922-9F83-4F76-AF08-F590442F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1DAF4-AFE6-47BA-8E90-446221D3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65192-F6CF-49BD-A773-CB4038A7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B000A-BD4F-4201-BBC8-440DF4E2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038E0-0D10-40D2-A75F-2B2445C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21AF1-D78A-4A7E-8715-F1A12188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61E43-A635-423B-BAD5-B79082E3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3DA74-C57C-4342-B934-325FDB56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6B80A-2159-43B9-93D1-9CD8B7A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45D-BCC1-47BB-BE23-967511B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E73-0E58-4074-97D0-355E31C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27C32-C10E-46EE-BE52-37700D4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24518-E13E-4488-B29E-B3D040B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27D38-7691-4F96-9A65-ED478D9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C4A5F-57AE-4369-BF8A-8212C78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7C176-8FC7-4855-B868-4AD194A2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AD83D-22BB-4820-B050-7420BFD1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D1DE4-A9B0-40E0-906B-40B8AAD3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AF6C5-29EB-447F-9D36-4580B62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461C6-EFD0-407A-A09F-2CD14EFF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97EB3-36BB-4C11-9D0C-15CA87C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412E-A1D3-4295-AB3D-EF5E512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E1BF3-E6D2-4E8E-A214-EBFE8DB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892E8-2825-4049-8873-A24A35E0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6ADB8-93A6-47C9-8E49-D9F6E279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BFBCB-F270-4314-9D48-E9AAE5F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D6709-6978-453F-90E2-53AD1FBD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7E7BF-7DCF-4239-AD87-2E5F4FE1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F6B46-763F-41B5-BCB8-67055249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B6BB-8FEC-462D-8E03-553D7A8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BAA9-3D9F-4CF8-B619-BE19E632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560-BB6E-40B3-85E1-0446E867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8912-3A9D-4885-8B1B-CA795D83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6DFC4-09C4-4BA8-983A-4DA01AE9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261F-0FA5-4B05-B604-CE6C62B6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E728-C07B-4AEA-AC7B-BF06A53B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E049-5507-4DB6-8CDC-8D9EE54C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981-DD66-44F8-B77C-491C3E5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45B5-190E-48F7-972D-C03935DA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BAE2-B11B-4869-8812-2B38857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24E5-0795-4AE8-AD80-E66D7AD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4F6C-217D-47F1-8BED-8BE7DC6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3E1B-7FE5-4009-B54E-C35E54F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6C8A-DF37-428B-8518-E8D61CB5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1279-CE7B-4DE8-A576-35B4821A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DF6C-8BB4-482A-89E1-1DFC523A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68FE-F653-4992-B84B-D3D6360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3100-0BDC-4E32-ABA8-2E6AEDA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50C-2226-4465-82CE-CB19A1E1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2274C-ACF3-46BE-8E41-C3A13CCA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EDCB-595A-4496-A2D6-F801AA49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A9A7-8FAC-46C5-A361-DE5C322B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865C-B874-460D-B320-99D17F1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557E-A33A-4F7F-8D2D-DB012971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0242-107D-477A-835E-1738C72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C432-4B55-4EE3-A34D-47E13579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1025-2D63-422B-A159-5DA24920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070A-D6B7-4D00-901C-4F2B6322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9041-9180-41D0-8B05-141F4922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2CD-4BF6-4286-A690-2D1E10B1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7A28-8917-416A-AF89-F107ED7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F645-492A-4823-A2A9-AB6D10B9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3F31-783E-46A1-AA20-5618745F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81E5-BB79-4CEA-91BE-2255CC4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30D4-4420-4850-80D6-4340FD29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F82E-A370-4A25-8E83-02EC653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6860-F57B-4082-BE82-3697E3F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A99A-E36B-4441-BBB0-3DBF194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1F4A-DA9C-47D6-8110-D94BACE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A78D-7A67-44EE-8BFA-F9C3946C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24E-AAB1-453F-86DF-445E1256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DFA2B-C348-4F3B-8C57-FE5B535D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73681-C150-4C20-8E9E-98CFABB9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03D7-649C-4529-B558-96C807E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8591C-C023-4F14-B5D0-AC4ACF04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6C70-F4D8-4FDA-AFB6-7DA2DF10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81FC-5DAB-4276-BA52-3014D73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DAE5-CFF0-4BB9-9C6E-ED859B0E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13140-D7FB-4FE0-9C85-A26FE23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A160-26C6-4ABB-9773-BD477A8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50E5-5559-4018-B0AB-13D631A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3D4-9A08-4A38-B677-855344F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9825B-94D6-48E4-9497-D2417574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16FE-890A-4A74-97C0-B09863B1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EB7F-6BD2-4F4C-98AF-7D99D645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2E3D8-90A5-458E-828F-543CBBEA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7D2B-0B1A-4BA5-A9B8-DCF6CB58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0C0E1-D09D-40AC-91C7-30A12054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7F55-BE3A-4845-A788-37EDFD5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1ECA-27A0-4835-9204-5FD0547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70BB-A68C-49F6-AC6F-55B4473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7FE2-9D26-46F2-9925-6E72235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F74-AEEF-4CB1-B4A2-6CA8F00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2E52-F6B5-45E1-930A-A9F52B2E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6EBA-8A24-4FD3-A1BE-6BA63774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46B7-440B-45A7-8682-E3E18F0B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DD98-19F5-402F-B1D7-2670D96D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7D52-D737-4303-A4AE-CCD3CEE2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9C29-6013-404A-B90A-2EB4185C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5C37B-A88A-4F74-99DB-3F5F2462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0D03D-D63C-495A-B1AC-46FF1132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8C8D-5BEB-40EC-A954-AB6894C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4FF5A-3241-450C-8073-32647F71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BCE-27BA-423D-83F5-52C653E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B9AAE-0291-418F-9A4F-B4FA305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6995A-E177-40E4-88C1-AB02B90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BE039-4102-4B7B-AE67-D6AB086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1ACA-06AB-4D34-BBCD-B279450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5E5E-AED7-430F-A595-C4A5BE57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46334-F90E-4D27-8F68-C424DFD0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2825-8232-4317-A2CD-6A790E78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13E0A-B4E1-4C1C-A4F5-008008BE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77D10-7D17-4930-9036-56AD8EC9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6073A-916B-4418-913E-098AC8A7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8624C-DA71-40A0-B2B5-C268D2D9E5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C4703-7F03-4638-AD49-B433D3CBF3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01A37-FDC1-43F4-90C2-48ACBFF0B5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F7BAE-477A-4964-849C-B4E6C23222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F8597-175A-499E-BC83-4C02086C41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B1609-8D78-4589-AD44-2BE65760C0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840E1-3CFF-4A22-B1BB-DA6E157DCB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4E62C-7E27-4DAF-B3A9-12A58B7C24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DC190-6583-44C4-96CC-C842596617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98E31-018C-4FBF-9B72-75308354C8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45DB6-A5DB-4678-A48A-FD4F2E5166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99523-0577-4282-A87D-1949C85D0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16CD4-CFAB-47D8-96D7-B52C76242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4D801-B5E1-4E67-B67C-9BCBBAD15E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071CA-E303-46D6-99AC-C9C0E419D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1FA75-8501-44BB-AE95-C1AD8D3BDC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0398E-9E63-47C8-A3E8-3A17BA41B2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E536B-5AFE-4A4C-BE15-C6FCD458DB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Tw Cen MT"/>
              </a:rPr>
              <a:t>AVALIAÇÃO QUANTITATIVA DE POPULAÇÕES MICROBIANAS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d0d0d"/>
                </a:solidFill>
                <a:latin typeface="Tw Cen MT"/>
              </a:rPr>
              <a:t>MÉTODO DAS PLAC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Imagem 3" descr=""/>
          <p:cNvPicPr/>
          <p:nvPr/>
        </p:nvPicPr>
        <p:blipFill>
          <a:blip r:embed="rId1"/>
          <a:stretch/>
        </p:blipFill>
        <p:spPr>
          <a:xfrm>
            <a:off x="10496520" y="0"/>
            <a:ext cx="1695600" cy="1895400"/>
          </a:xfrm>
          <a:prstGeom prst="rect">
            <a:avLst/>
          </a:prstGeom>
          <a:ln w="0">
            <a:noFill/>
          </a:ln>
        </p:spPr>
      </p:pic>
      <p:sp>
        <p:nvSpPr>
          <p:cNvPr id="778" name="CaixaDeTexto 4"/>
          <p:cNvSpPr/>
          <p:nvPr/>
        </p:nvSpPr>
        <p:spPr>
          <a:xfrm>
            <a:off x="8319960" y="5241960"/>
            <a:ext cx="38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Trabalho realizado por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César Santos nº339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Joana Pereira nº3398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Susana Ferreira nº339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914040" y="2367000"/>
            <a:ext cx="103633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O MÉTODO DAS PLACAS TEM UMA GENERALIZADA APLICAÇÃO NAS INDÚSTRIAS AGROALIMENTARES, POIS PERMITE, COM RESULTADOS BASTANTE FIÁVEIS, A DETERMINAÇÃO DA CARGA MICROBIANA DOS ALIMENTOS, QUER SÓLIDOS, QUER LÍQUIDOS, DANDO INDICAÇÕES MUITO PRECISAS ACERCA DA SUA QUALIDADE MICROBIOLÓGIC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FUNDAMEN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ESTE MÉTODO BASEIA-SE NO PRINCÍPIO DE QUE CADA MICRORGANISMO VIÁVEL INOCULADO, EM DETERMINADAS CONDIÇÕES, DARÁ, NO FINAL DO PERÍODO DE INCUBAÇÃO, UMA COLÓNIA ISOLAD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MATERIAL UTILIZADO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4" name="Marcador de Posição de Conteúdo 2" descr=""/>
          <p:cNvPicPr/>
          <p:nvPr/>
        </p:nvPicPr>
        <p:blipFill>
          <a:blip r:embed="rId1"/>
          <a:stretch/>
        </p:blipFill>
        <p:spPr>
          <a:xfrm>
            <a:off x="858960" y="2365200"/>
            <a:ext cx="1041876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METODOLOGI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914040" y="2367000"/>
            <a:ext cx="103633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 u="sng">
                <a:solidFill>
                  <a:srgbClr val="000000"/>
                </a:solidFill>
                <a:uFillTx/>
                <a:latin typeface="Tw Cen MT"/>
                <a:ea typeface="Calibri"/>
              </a:rPr>
              <a:t>PREPARAÇÃO DA SOLUÇÃO DE RINGE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NUM COPO DE 1L CONTENDO 500ML DE ÁGUA DESTILADA, ADICIONA-SE UMA DRAGEIA E HOMOGENEÍZA-SE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DESTA SOLUÇÃO, 180ML SÃO DIVIDIDOS EM DOIS FRASCOS, E OS RESTANTES 320ML SÃO DISTRIBUÍDOS POR 35 TUBOS DE ENSAIO.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 u="sng">
                <a:solidFill>
                  <a:srgbClr val="000000"/>
                </a:solidFill>
                <a:uFillTx/>
                <a:latin typeface="Tw Cen MT"/>
                <a:ea typeface="Calibri"/>
              </a:rPr>
              <a:t>PREPARAÇÃO DA SUSPENSÃO MÃE PARA ALIMENTOS SÓLIDOS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DESTINA-SE A FIXAR O PROCESSO DE SUSPENDER E HOMOGENEIZAR OS ALIMENTOS SÓLIDOS NUM DILUIDOR, COM VISTA A LIBERTAR, NUMA FASE LÍQUIDA, OS MICRORGANISMOS QUE AQUELES CONTÊM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952200" y="422280"/>
            <a:ext cx="1036332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COMEÇA POR SE RECOLHER CERCA DE 10G DA AMOSTRA QUE, NO NOSSO CASO É O FIAMBR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INTRODUZEM-SE, NUM BALÃO OU NUM SACO DE PLÁSTICO ESTERILIZADOS CONTENDO 90 ML DE SOLUÇÃO DILUIDORA ESTÉRIL. HOMOGENEÍZA-SE MUITO BEM, MECANICAMENTE NO STOMACKER, DURANTE 1 A 2 MINUTOS, DE FORMA A OBTER UMA SUSPENSÃO HOMOGÉNEA E CAPAZ DE SER PIPETAD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A PARTIR DESTA SOLUÇÃO-MÃE VÃO REALIZAR-SE AS RESTANTES DILUIÇÕES, PARA TUBOS DE ENSAIO CONTENDO SOLUÇÃO DILUIDOR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7:23:16Z</dcterms:created>
  <dc:creator>César Santos</dc:creator>
  <dc:description/>
  <dc:language>en-US</dc:language>
  <cp:lastModifiedBy>César Santos</cp:lastModifiedBy>
  <dcterms:modified xsi:type="dcterms:W3CDTF">2019-04-01T18:44:38Z</dcterms:modified>
  <cp:revision>9</cp:revision>
  <dc:subject/>
  <dc:title>Avaliação Quantitativa de Populações Microbianas</dc:title>
</cp:coreProperties>
</file>